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32-3F08-4D58-8694-1B203323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B14-8D7A-4809-B699-CAAA277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1BA67-A7F6-4BAF-B712-80C3445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42F11-7772-4EE5-A980-4BF5E31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35DAC-C7C9-4860-9112-4ED30E3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B4204-9EF8-4CEE-8F58-03CE825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90656-6F5B-40D6-BA6C-742FC13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0943B-7A94-4187-956F-BD60407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48386-8A4D-4300-A84C-689287D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D13556-0EA1-41E6-8A83-09D5FC4B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8D7F7-51B0-405F-989A-0AE9FCBB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B6E5-AC36-450B-A72D-1336D19A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72A-11BB-4417-B5F8-A7E82AA4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F5F4C-D351-4B74-B759-9ACFE41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B3AE-68EC-4DF6-8BF1-E6C99B2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421F2-8133-43D0-A102-9E92387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2CEA-6F2C-49FB-B227-174E222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626F1-5CB2-46FB-B48C-87EAE615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F22F0-6758-4EC5-B2DB-755B80E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92D6A-563A-4F09-B9EB-80FB678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03010-9B68-4EA7-A8F0-10CA450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CD310-0F5F-4B3B-975B-8FD7B56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0BBD8-28BF-4456-B7D0-FE3ABE4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E67-D496-463F-962A-41353226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45B66-49AC-4D76-A31C-1547EE85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C91D9-157F-466F-B98B-771438F0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7813E-A647-4AB6-9EA7-CB712BB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65258-C330-4C3C-B936-447E0D6E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B084F-8DF9-4A0F-A97F-0C53585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1B31-BF31-4E13-A979-24F6C7F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72A8-BACC-4521-91EA-899CFA3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DF17-81EF-4351-B7B2-C882206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5E8BF-D5F6-423A-864C-23B0458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B7B67-CA86-4987-8A75-BBD116A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58C-EF08-4261-935B-9C3C3A16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F22EF-E714-46B1-8446-93AB6CD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8CD9B-6B58-43B3-A683-5DE08A82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CC13-0425-41B6-AE31-9D7447A4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826A-EABA-4166-886C-32EF74A4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083-FD6D-4CFD-9B46-2782929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03B-1CC6-4767-8005-BD715EF7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54C-B3AD-442D-BF04-97A301E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ED8B-D757-4865-8B2B-3B7D3F4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767-C585-45EE-A480-976DA1C8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E32-BA23-439B-A9A1-D5FEFA8F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C56E-8CEC-4C64-B798-8757E1F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D34B-0D62-40B7-B8F5-3428196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DACE-E35B-42B8-85AA-47D7A228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8A4A-506F-4E14-A889-29733471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252-88E5-41F5-A0D7-A0B0A233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303F-1783-4B57-AB60-D6871E1B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5499-CB9F-47FC-A7E2-337CA4AB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6BAC-48A4-42C5-9027-1522775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94AA-5A4A-4486-A55C-6D1DAB1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436C-0980-474B-9A04-F29276E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534-B610-4BB3-8092-53DE0360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744B7-4F30-44AF-9ACF-6D55FEF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310E-A3C5-464A-8F96-112D877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3C54-2E6C-47A5-A88A-E0D9E4B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3464-C7E1-4F79-83AE-57B5D5A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0D4C-6607-421A-9B39-ACAF582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51EA-C719-4D78-A68F-7DA4993A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2FBF-3A45-4F04-AA4E-9B96A2FD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F5DB-9A45-467B-90E7-B9169576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081D-2F43-41DA-A7C7-B81D351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7BBE-BD30-4A88-9FF3-228839B6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430-468D-43EC-9D2D-66736418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BAA2-FB01-4B45-AE3D-16117DD0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7139-1171-4DFE-8ECA-7F8D7344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7AC2-17F2-4898-9547-57646D7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4B73-9E60-4832-BF8A-3259371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CD41-3F56-4771-B0B4-4EBD2EF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4250-7698-4764-ADA5-C2962C3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0807-B4F4-4C95-B6ED-799297C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93BA-E250-4E18-AC71-2DA8237A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59F7-EBCF-4B5E-A0C4-86689E7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FEDA-8D5E-4B80-8DF0-12E041EA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BB0-DA86-4A0B-BBBF-9630B9D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7458-A1FB-4701-AF74-8F58F205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2554-0ACF-4826-9C76-709F111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D8ED-716E-4EF2-AC38-7D6962A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6D0E-3F7A-4237-89B4-7D7446B6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A96D-7235-4B26-BDA1-E51DE2DF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BE25-484A-4484-A4F9-14C59A7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38F4-84BF-4D8A-B8BA-FD3FC9C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D2BD-6955-4AEE-8607-11D235F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1D42-7E39-4CB2-B004-88D55A34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6D04-582B-422E-87E0-869BF9F4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217-065B-458D-9C1E-021CCAB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1439-8208-4AA0-9662-7724B80F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5B770-EEB7-487C-8AB1-310F254E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68B1-8936-482F-B5EA-7E35C551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31D5-3494-4885-B4BA-E7C6B24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4207-0C25-458F-9978-9C3A7B9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19DC-E114-4154-BDD2-4982E5D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93EC-44AC-4EA7-AFA1-BA62763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DC32-09BB-4B69-8A29-5EDBDCA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0B3A-0F92-4BA7-841C-AD29025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8782-4DF7-4263-A728-555E1AC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4B4-C81D-428B-847A-028B760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F4F6-08E2-4109-A465-E1918A8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CBD5C-76BF-4996-8BBD-6F83A38A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6D1E-40E8-49B0-AA14-A3B8F7F6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1587C-2F09-415E-84B3-E5473EB4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E0724-974F-4EB0-BF04-296DFE50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A0A5D-B0AD-4B10-B454-F2ECF5B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6EAE3-5E9D-48B1-B64F-31192F89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F59C3-3408-466E-A595-D74B942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C5280-BCB1-457D-AC9D-1B17D78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3A268-B297-4363-B4F2-1DB4FA5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D66-79A1-4B01-8888-9C2B82D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C4702-8A0F-4CE4-8F37-CA17A9A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3D8F1-16A6-4375-B945-44C03C3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DA9F2-4307-4B7D-9122-07EE1061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ECA30-6D21-4E22-8056-4F771E44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89B07-B41A-492C-8B07-008C8A5D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0FAE-A474-48D1-B3BB-1970CAEF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A549-0F88-43C2-A02D-3F99B74C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B8CB3-4364-4D97-92FC-E76AEB6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DC26-841D-4AD5-8102-DE434C1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B5EF-810E-40B4-A058-7EFA7F0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A37-8DBF-4E99-81A9-2FC4246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AE416-186B-4180-AE6D-BB6640B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CAFA7-57A1-4306-9938-D42D2E4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19FFC-4FFA-45C6-B349-A389A87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47F3-6511-4434-B4AC-AFD2ACB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EE06-FB27-4525-8577-6004B9BC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E29DC-A591-4A7B-A1A9-4CA242B6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BEAEB-3CB4-47CB-99C7-C7ED91FA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A75E3-C33E-4CCB-B819-9D34B164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03212-C7F3-4B40-AB5D-8CB13366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FB440-D194-45BE-98D2-84ED716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72E-1399-4ED9-9ED2-7B99D32C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F046-2FCA-446B-8102-DBC7C05360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16B-A5D9-4635-A7F9-4262D15B04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DCC-FB9A-4FC2-A6D9-B3DCE938E4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2CED-2F55-4A45-8719-B759202443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051-BA2A-4623-9D35-63DAD748EE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41F-70EF-414E-9861-6A33EC2F75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B295-FAB0-4E37-9EE7-E8ABA226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D3D3-3E37-44E8-9557-B2F6CAD0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F563-85F7-4DB8-A071-2694C44A8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C1A4-DB94-4FDA-8568-E4669ECF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04920" y="30492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bio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cosistema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548640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ch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tor Lomb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beca Sá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El depredador y su 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205740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invierno, un grupo de alces logró llegar a la isla a través de las aguas heladas y se instaló en ella; allí creció en ausencia de depred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abunda la presa, hay poca resistencia ambiental para el depredador y su número aumenta. La consecuencia es la disminución de la `presa, que a su vez hace aumentar la resistencia ambiental para el depred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828800" y="5335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La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1905120"/>
            <a:ext cx="83822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ron dos especies de paramecios. Se prepararon dos tipos de cultivos, uno con las dos especies por separado y otro con las dos j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aso: las dos especies progresaron hasta alcanzar el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egundo caso, solo una de las especies logró sobrevivir mientras la otra acabó por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que dos especies que usan de la misma manera recursos idénticos no pueden coexistir en el mismo medio. La mejor adaptada elimina a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80880" y="457200"/>
            <a:ext cx="861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uando el equilibrio se rompe: LAS PLA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11430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2514600"/>
            <a:ext cx="7772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laga es cualquier organismo no deseado que interfiere, de manera directa o indirecta, con las actividades hu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oblaciones de plagas están controladas por la falta de recursos y por sus competidores y depredadores naturales Pero este equilibrio se rompe cuando la plaga se encuentra con una cantidad prácticamente ilimitada y una ausencia de ene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143000" y="228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Plagui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20" y="1219320"/>
            <a:ext cx="80769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étodo más utilizado ha sido el uso de plaguicidas. Un plaguicida es una sustancia química capaz de matar organismos considerados como indeseables: Insecticida, herbici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laguicida ideal debería exterminar solo a la plaga objeto y no tener efectos nocivos sobre los seres vivos que nos son problema, incluyendo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038840" cy="26874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4381560" y="3505320"/>
            <a:ext cx="42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457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El control integral de las pla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2362320"/>
            <a:ext cx="7924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objetivo no está en erradicar, sino en mantener la población de plagas por debajo del tamaño en el que causan pérdidas 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ando se detecta la aparición inicial de la `plaga se utilizan controles biológico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Introducir depredadores naturales, parásitos y patógenos para regular la población de la pl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Esterilizar insectos machos de la plaga y liberarlos para que compiten con los machos fér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montar trampas con sustancias atrayentes como feromonas. Las trampas se utilizan para atraer a los depredadores naturales o a la propia pl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rcRect l="0" t="0" r="0" b="6776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80880" y="380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Los ecosistemas cambian. Cambios periód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2209680"/>
            <a:ext cx="7162920" cy="4114800"/>
          </a:xfrm>
          <a:prstGeom prst="rect">
            <a:avLst/>
          </a:prstGeom>
          <a:solidFill>
            <a:srgbClr val="ffffff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2201760"/>
            <a:ext cx="69343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riodicidad conjunta de los movimientos del sol, Tierra y Luna son el origen de cambos ambientales que se repiten de forma cíclica sobre la superficie terrestre. Los cambios estacionales, la sucesión del día y la noche o los cambios producidos pos la alternancia de las m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oblaciones y los ecosistemas ambientales experimentan variaciones periódicas en respuesta a estos cambios ambientales. El número de individuos cambia y cambia su actividad y su distrib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06668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14479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diarios. Los organismos se ajustan a estos cambios alternando los período de reposo y actividad, dependiendo de la hora del día. Hay organismos diurnos, nocturnos, vespertinos o matut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estacionales. Una gran variedad de comportamientos está asociada a los cambios estacionales. En las plantas, la caída de la hoja y en los animales, los períodos de reprodu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de mareas. Los cambios en el nivel del mar afectan de forma periódica a los organismos que viven en las c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mbios tras un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plantas son pirófitos, es decir, que logran regenerarse con facilidad tras un incen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35812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en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3886200" y="20574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 el incendio, solo algunos elementos subterráneos sobreviven. El resto desaparece y el humus es destr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" y="46483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 el suelo no ha sido destruido completamente, se inicia el proceso de regeneración. Durante los primeros años se forma un pastizal formado por plantas herbác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9144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ambios en las 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22096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poblaciones poseen una serie de características propias de las que carecen los individuos aislados, como el tamaño, número de individu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5105520"/>
            <a:ext cx="25909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4267080"/>
            <a:ext cx="2133720" cy="8384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3200400"/>
            <a:ext cx="609480" cy="1066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4800600"/>
            <a:ext cx="18288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3962520"/>
            <a:ext cx="2286000" cy="838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200400"/>
            <a:ext cx="16765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67480" y="4724280"/>
            <a:ext cx="4572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0" y="3962520"/>
            <a:ext cx="16002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200400"/>
            <a:ext cx="190476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6668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81680" y="5715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reg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743200" cy="1827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733920" y="609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urante los siguientes años predominan los arbustos bajos. Los troncos quemados se descomponen y las poblaciones animales aumen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1066680" y="2514600"/>
            <a:ext cx="2819520" cy="1889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267080" y="2895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espués en los siguientes 30 o 35 años se conseguirá una maquia arbolada y con una gran protección se logrará la presencia de mamíferos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2857320" cy="19144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429000" y="51814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a llegar a la formación total tendrán que pasar 50 o 60 años más, y para poder ver una comunidad, otros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cesión ec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¿Por qué se produ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causas naturales o influidas por humanos que despejan un espacio de las comunidades     biológicas o las altera grav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be el nombre de ecosistema clímax cuando ha alcanazo el máximo de relaciones tróficas y está en la cima de su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uces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ecosistemas, sucesión primaria "/>
          <p:cNvPicPr/>
          <p:nvPr/>
        </p:nvPicPr>
        <p:blipFill>
          <a:blip r:embed="rId1"/>
          <a:stretch/>
        </p:blipFill>
        <p:spPr>
          <a:xfrm>
            <a:off x="380880" y="1371600"/>
            <a:ext cx="3581640" cy="26798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57200" y="43434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nicia de cero; es decir, si no ha estado colonizada por organismos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95680" y="3049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ucesión Secu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87692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do en una zona en la que anteriormente existía una comunidad, pero que ha sido elim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ecosistema se caracteriza p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tar integrado por un conjunto de elementos o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s interacciones que se producen entre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s interacciones que proporcionan una entidad a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4191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een propiedades especí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cambia materia y energía entre sus propios componentes y con el ex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utomantiene como estructura y se modifica con el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de equilibrio diná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do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ria inorgá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ragmentos de rocas, minerales, aire y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ria orgán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tud de organismos, restos de ellos y hu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3124080" y="4191120"/>
            <a:ext cx="3810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ción de un su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527640" cy="3753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380880" y="1600200"/>
            <a:ext cx="4343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-Roca mad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os cambios de temperatura, el agua y el aire fragmentan las rocas y las degra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-Suelo jo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 acción del agua, el aire y los seres vivos como líquenes o microorganismos permiten la form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-Suelo madur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iles de años después, el suelo evoluciona y se enriquece en materia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s suelos evolucio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 forman y destruyen, y su destrucción se lleva a cabo por procesos ero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 predominan los procesos formadores, el suelo incrementa su espesor y complej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 predominan los procesos erosivos, el suelo va perdiendo espe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62120" y="1828800"/>
            <a:ext cx="7543800" cy="1066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9480" y="3581280"/>
            <a:ext cx="7543800" cy="1067040"/>
          </a:xfrm>
          <a:prstGeom prst="rect">
            <a:avLst/>
          </a:prstGeom>
          <a:solidFill>
            <a:srgbClr val="ff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5257800"/>
            <a:ext cx="7543800" cy="1066680"/>
          </a:xfrm>
          <a:prstGeom prst="rect">
            <a:avLst/>
          </a:prstGeom>
          <a:solidFill>
            <a:srgbClr val="ff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s suelos se degradan y se destruy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or actividad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o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explotación de cul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pasto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286080" cy="22417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2590920" y="5029200"/>
            <a:ext cx="2511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914400" y="3808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ambios </a:t>
            </a: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en el tamaño</a:t>
            </a: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 de la </a:t>
            </a: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22096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ncipal factor que favorece el aumento de las poblaciones es el potencial bió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cto sobre el tamaño de población, las crías deben sobrevivir y reproduci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 factor que favorece en crecimiento es la capacidad de migrar o dispers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533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Estrategias de re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447920"/>
            <a:ext cx="76201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y dos estrategias de reprodu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Tasa de natalidad elevada y alta mortalidad de las c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Tasa de natalidad pequeña y baja mortalidad de las c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4038480" cy="18576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2057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762120" y="457200"/>
            <a:ext cx="784836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recimiento exponencial y explosión pob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representar en una gráfica el número de individuos de una población en función del tiempo y en un medio con recursos ilimitados, se obtiene una curva de crecimiento en forma de J. Cuando esto ocurre se dice que hay una explosión pobl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junto de factores bióticos y abióticos que limitan el aumento de las poblaciones se denomina resistenci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recimiento en S de la 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2362320"/>
            <a:ext cx="7543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e representa el crecimiento de una población en función del tiempo y en un medio con recursos limitados, se obtiene una curva de crecimiento en forma de S. Este  límite se conoce con el nombre de capacidad de sos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acidad de sostenimiento (K) es la población máxima que un hábitat dado puede sostener sin degradarse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0880" y="8380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Las poblaciones interact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3623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ensidad es unos de los factores que controlan el tamaño de la población. Al aumentar la densidad, también lo hace la resistencia ambiental y al contario. El tamaño de las poblaciones se mantiene dentro de unos lím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a</cp:lastModifiedBy>
  <dcterms:modified xsi:type="dcterms:W3CDTF">2012-05-30T19:04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